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7.jpeg" ContentType="image/jpeg"/>
  <Override PartName="/ppt/media/image6.jpeg" ContentType="image/jpeg"/>
  <Override PartName="/ppt/media/image18.png" ContentType="image/png"/>
  <Override PartName="/ppt/media/image28.jpeg" ContentType="image/jpeg"/>
  <Override PartName="/ppt/media/image7.jpeg" ContentType="image/jpeg"/>
  <Override PartName="/ppt/media/image29.jpeg" ContentType="image/jpeg"/>
  <Override PartName="/ppt/media/image8.png" ContentType="image/png"/>
  <Override PartName="/ppt/media/image13.png" ContentType="image/png"/>
  <Override PartName="/ppt/media/image5.jpeg" ContentType="image/jpeg"/>
  <Override PartName="/ppt/media/image26.jpeg" ContentType="image/jpeg"/>
  <Override PartName="/ppt/media/image12.png" ContentType="image/pn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1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8A829-9312-4460-863E-3EB2C5EA40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EED5E-BDFF-4B8B-8FDE-D24A2B8F64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01EC7-44A8-4AF6-8A6B-7DAA0E0705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B3E94-AE3D-4CCF-8950-56F69B27B1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58EA9-1E80-4B4B-9FAF-DFA880831C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4EAA9-5EF8-4314-87D7-3C5301960E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F3D6B-9656-47AA-9C46-33191690DE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40370-B0B4-4137-AEF5-45939280A4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A63FA-B492-49B3-B28F-914332D6D2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DE749-1E0E-40E1-9A33-7B42489652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5215D-D5B2-4DE8-A88A-948F32AF42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2C3A2-7D23-4C05-B859-85AEB5A4CF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049"/>
              </a:spcBef>
              <a:spcAft>
                <a:spcPts val="700"/>
              </a:spcAft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1049"/>
              </a:spcBef>
              <a:spcAft>
                <a:spcPts val="700"/>
              </a:spcAft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1049"/>
              </a:spcBef>
              <a:spcAft>
                <a:spcPts val="700"/>
              </a:spcAft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487880" indent="-212400">
              <a:spcBef>
                <a:spcPts val="1049"/>
              </a:spcBef>
              <a:spcAft>
                <a:spcPts val="700"/>
              </a:spcAft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913040" indent="-212400">
              <a:spcBef>
                <a:spcPts val="1049"/>
              </a:spcBef>
              <a:spcAft>
                <a:spcPts val="700"/>
              </a:spcAft>
              <a:buClr>
                <a:srgbClr val="ffff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913040" indent="-212400">
              <a:spcBef>
                <a:spcPts val="1049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913040" indent="-212400">
              <a:spcBef>
                <a:spcPts val="1049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619440" y="6552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60AEE-AFE1-4D8E-AAB8-8ED7B7F7CE3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153684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1523880"/>
            <a:ext cx="9144000" cy="3886200"/>
          </a:xfrm>
          <a:prstGeom prst="rect">
            <a:avLst/>
          </a:pr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4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751"/>
              </a:spcBef>
              <a:spcAft>
                <a:spcPts val="499"/>
              </a:spcAft>
              <a:buClr>
                <a:srgbClr val="ffff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75"/>
              </a:spcBef>
              <a:spcAft>
                <a:spcPts val="451"/>
              </a:spcAft>
              <a:buClr>
                <a:srgbClr val="ffff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75"/>
              </a:spcBef>
              <a:spcAft>
                <a:spcPts val="451"/>
              </a:spcAft>
              <a:buClr>
                <a:srgbClr val="ffff6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idwestcommunications.com/" TargetMode="External"/><Relationship Id="rId3" Type="http://schemas.openxmlformats.org/officeDocument/2006/relationships/hyperlink" Target="http://www.proaudiomusic.com/" TargetMode="External"/><Relationship Id="rId4" Type="http://schemas.openxmlformats.org/officeDocument/2006/relationships/hyperlink" Target="http://www.partsexpress.com/" TargetMode="External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Rackmount Equipment Cases for DXing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581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25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S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hack</a:t>
            </a:r>
            <a:br>
              <a:rPr sz="3000"/>
            </a:b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O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rganiz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9900"/>
                </a:solidFill>
                <a:latin typeface="Book Antiqua"/>
              </a:rPr>
              <a:t>    </a:t>
            </a: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Then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shack_4" descr=""/>
          <p:cNvPicPr/>
          <p:nvPr/>
        </p:nvPicPr>
        <p:blipFill>
          <a:blip r:embed="rId2"/>
          <a:stretch/>
        </p:blipFill>
        <p:spPr>
          <a:xfrm>
            <a:off x="4038480" y="1779480"/>
            <a:ext cx="3353040" cy="3299040"/>
          </a:xfrm>
          <a:prstGeom prst="rect">
            <a:avLst/>
          </a:prstGeom>
          <a:ln w="0">
            <a:noFill/>
          </a:ln>
        </p:spPr>
      </p:pic>
      <p:pic>
        <p:nvPicPr>
          <p:cNvPr id="84" name="shack_3" descr=""/>
          <p:cNvPicPr/>
          <p:nvPr/>
        </p:nvPicPr>
        <p:blipFill>
          <a:blip r:embed="rId3"/>
          <a:stretch/>
        </p:blipFill>
        <p:spPr>
          <a:xfrm>
            <a:off x="762120" y="4419720"/>
            <a:ext cx="2971800" cy="1996920"/>
          </a:xfrm>
          <a:prstGeom prst="rect">
            <a:avLst/>
          </a:prstGeom>
          <a:ln w="0">
            <a:noFill/>
          </a:ln>
        </p:spPr>
      </p:pic>
      <p:pic>
        <p:nvPicPr>
          <p:cNvPr id="85" name="shack_2" descr=""/>
          <p:cNvPicPr/>
          <p:nvPr/>
        </p:nvPicPr>
        <p:blipFill>
          <a:blip r:embed="rId4"/>
          <a:stretch/>
        </p:blipFill>
        <p:spPr>
          <a:xfrm>
            <a:off x="6172200" y="4191120"/>
            <a:ext cx="2286000" cy="22557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344840" y="5486400"/>
            <a:ext cx="119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an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skb_cases" descr=""/>
          <p:cNvPicPr/>
          <p:nvPr/>
        </p:nvPicPr>
        <p:blipFill>
          <a:blip r:embed="rId2"/>
          <a:stretch/>
        </p:blipFill>
        <p:spPr>
          <a:xfrm>
            <a:off x="0" y="304920"/>
            <a:ext cx="9144000" cy="62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skb_shallowrack" descr=""/>
          <p:cNvPicPr/>
          <p:nvPr/>
        </p:nvPicPr>
        <p:blipFill>
          <a:blip r:embed="rId2"/>
          <a:stretch/>
        </p:blipFill>
        <p:spPr>
          <a:xfrm>
            <a:off x="0" y="685800"/>
            <a:ext cx="982980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Pricing from Other Sources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1981080"/>
            <a:ext cx="7848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ch Ebay for Rackmount Case Au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b Sites such as </a:t>
            </a: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www.midwestcommunications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www.proaudiomusic.com</a:t>
            </a: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and </a:t>
            </a: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4"/>
              </a:rPr>
              <a:t>www.partsexpress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Accessories &amp; Hardware for 19 Racks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15" name="screws" descr=""/>
          <p:cNvPicPr/>
          <p:nvPr/>
        </p:nvPicPr>
        <p:blipFill>
          <a:blip r:embed="rId2"/>
          <a:stretch/>
        </p:blipFill>
        <p:spPr>
          <a:xfrm>
            <a:off x="1143000" y="4191120"/>
            <a:ext cx="2540160" cy="1701720"/>
          </a:xfrm>
          <a:prstGeom prst="rect">
            <a:avLst/>
          </a:prstGeom>
          <a:ln w="0">
            <a:noFill/>
          </a:ln>
        </p:spPr>
      </p:pic>
      <p:pic>
        <p:nvPicPr>
          <p:cNvPr id="116" name="rackmount_chassis" descr=""/>
          <p:cNvPicPr/>
          <p:nvPr/>
        </p:nvPicPr>
        <p:blipFill>
          <a:blip r:embed="rId3"/>
          <a:stretch/>
        </p:blipFill>
        <p:spPr>
          <a:xfrm>
            <a:off x="6620040" y="20574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17" name="rack_shelf_1" descr=""/>
          <p:cNvPicPr/>
          <p:nvPr/>
        </p:nvPicPr>
        <p:blipFill>
          <a:blip r:embed="rId4">
            <a:lum contrast="18000"/>
          </a:blip>
          <a:stretch/>
        </p:blipFill>
        <p:spPr>
          <a:xfrm>
            <a:off x="4572000" y="4724280"/>
            <a:ext cx="4191120" cy="11937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62120" y="175248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93640" y="1892160"/>
            <a:ext cx="5730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rews and Nylon was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ssis Boxes (for homebrew circuits, filters, antenna switches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ck shelves (good for Non-rackmount equip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9144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Useful Extras for a Neat Installation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914400" y="1905120"/>
            <a:ext cx="5029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ble Ties (tie wrap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cableties_2" descr=""/>
          <p:cNvPicPr/>
          <p:nvPr/>
        </p:nvPicPr>
        <p:blipFill>
          <a:blip r:embed="rId2"/>
          <a:stretch/>
        </p:blipFill>
        <p:spPr>
          <a:xfrm>
            <a:off x="3733920" y="3211560"/>
            <a:ext cx="2903400" cy="2503440"/>
          </a:xfrm>
          <a:prstGeom prst="rect">
            <a:avLst/>
          </a:prstGeom>
          <a:ln w="0">
            <a:noFill/>
          </a:ln>
        </p:spPr>
      </p:pic>
      <p:pic>
        <p:nvPicPr>
          <p:cNvPr id="123" name="cableties_1" descr=""/>
          <p:cNvPicPr/>
          <p:nvPr/>
        </p:nvPicPr>
        <p:blipFill>
          <a:blip r:embed="rId3"/>
          <a:stretch/>
        </p:blipFill>
        <p:spPr>
          <a:xfrm>
            <a:off x="7086600" y="2209680"/>
            <a:ext cx="1565280" cy="1382760"/>
          </a:xfrm>
          <a:prstGeom prst="rect">
            <a:avLst/>
          </a:prstGeom>
          <a:ln w="0">
            <a:noFill/>
          </a:ln>
        </p:spPr>
      </p:pic>
      <p:pic>
        <p:nvPicPr>
          <p:cNvPr id="124" name="cableties_3" descr=""/>
          <p:cNvPicPr/>
          <p:nvPr/>
        </p:nvPicPr>
        <p:blipFill>
          <a:blip r:embed="rId4"/>
          <a:stretch/>
        </p:blipFill>
        <p:spPr>
          <a:xfrm>
            <a:off x="1066680" y="4308480"/>
            <a:ext cx="2057400" cy="186372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9144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Useful Extras for a Neat Installation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752480" y="1600200"/>
            <a:ext cx="5639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ble Clips from Radio Sh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RS_cable_clips" descr=""/>
          <p:cNvPicPr/>
          <p:nvPr/>
        </p:nvPicPr>
        <p:blipFill>
          <a:blip r:embed="rId2"/>
          <a:stretch/>
        </p:blipFill>
        <p:spPr>
          <a:xfrm>
            <a:off x="1447920" y="2286000"/>
            <a:ext cx="624816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9144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Useful Extras for a Neat Installation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erlock Strips from Radio Sh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RS_superlock_strips" descr=""/>
          <p:cNvPicPr/>
          <p:nvPr/>
        </p:nvPicPr>
        <p:blipFill>
          <a:blip r:embed="rId2"/>
          <a:stretch/>
        </p:blipFill>
        <p:spPr>
          <a:xfrm>
            <a:off x="1308240" y="2238480"/>
            <a:ext cx="6540480" cy="44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9144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Useful Extras for a Neat Installation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240" y="167652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” or wider laminate shelving for base or floor of rac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799"/>
              </a:spcAft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non-rackmount equi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laminate_shelf" descr=""/>
          <p:cNvPicPr/>
          <p:nvPr/>
        </p:nvPicPr>
        <p:blipFill>
          <a:blip r:embed="rId2"/>
          <a:stretch/>
        </p:blipFill>
        <p:spPr>
          <a:xfrm>
            <a:off x="2886120" y="3886200"/>
            <a:ext cx="3371760" cy="25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Useful Extras for a Neat Installation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67652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casefoam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4952880" y="2170080"/>
            <a:ext cx="3886200" cy="23256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69960" y="1981080"/>
            <a:ext cx="4130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mera case foam of various dens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o wedge between non-rackmount gear and/or rackmount case si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Installation Examples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2120" y="167652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1981080"/>
            <a:ext cx="2057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of Don’s rackmount cases with receivers and ext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dn_1" descr=""/>
          <p:cNvPicPr/>
          <p:nvPr/>
        </p:nvPicPr>
        <p:blipFill>
          <a:blip r:embed="rId2"/>
          <a:stretch/>
        </p:blipFill>
        <p:spPr>
          <a:xfrm>
            <a:off x="2362320" y="1752480"/>
            <a:ext cx="662940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Rackmount Equipment Cases for DXing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35053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25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S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hack</a:t>
            </a:r>
            <a:br>
              <a:rPr sz="3000"/>
            </a:b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O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rganiz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…</a:t>
            </a: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N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ga_home_rackfront" descr=""/>
          <p:cNvPicPr/>
          <p:nvPr/>
        </p:nvPicPr>
        <p:blipFill>
          <a:blip r:embed="rId2"/>
          <a:stretch/>
        </p:blipFill>
        <p:spPr>
          <a:xfrm>
            <a:off x="3581280" y="3733920"/>
            <a:ext cx="3124440" cy="234288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90" name="dn_1" descr=""/>
          <p:cNvPicPr/>
          <p:nvPr/>
        </p:nvPicPr>
        <p:blipFill>
          <a:blip r:embed="rId3"/>
          <a:stretch/>
        </p:blipFill>
        <p:spPr>
          <a:xfrm>
            <a:off x="768240" y="4267080"/>
            <a:ext cx="3117960" cy="23385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91" name="jb_1" descr=""/>
          <p:cNvPicPr/>
          <p:nvPr/>
        </p:nvPicPr>
        <p:blipFill>
          <a:blip r:embed="rId4"/>
          <a:stretch/>
        </p:blipFill>
        <p:spPr>
          <a:xfrm>
            <a:off x="5562720" y="1693800"/>
            <a:ext cx="3124080" cy="234468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Installation Examples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167652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1981080"/>
            <a:ext cx="2057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s minidisc recorders and audio switching 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dn_2" descr=""/>
          <p:cNvPicPr/>
          <p:nvPr/>
        </p:nvPicPr>
        <p:blipFill>
          <a:blip r:embed="rId2"/>
          <a:stretch/>
        </p:blipFill>
        <p:spPr>
          <a:xfrm>
            <a:off x="2286000" y="1676520"/>
            <a:ext cx="678168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Installation Examples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167652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1981080"/>
            <a:ext cx="2057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uy’s shack at home, using a shallow-style Gatorcase #GR-6S ($99 street pric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ga_home_rackfront" descr=""/>
          <p:cNvPicPr/>
          <p:nvPr/>
        </p:nvPicPr>
        <p:blipFill>
          <a:blip r:embed="rId2"/>
          <a:stretch/>
        </p:blipFill>
        <p:spPr>
          <a:xfrm>
            <a:off x="2362320" y="1676520"/>
            <a:ext cx="67053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Installation Examples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62120" y="167652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2280" y="1981080"/>
            <a:ext cx="2057400" cy="39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uy’s gea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a recent Grayland DXped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ote Cybiko device used for wireless sharing of tips with other DX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ga_grayland_rack_1" descr=""/>
          <p:cNvPicPr/>
          <p:nvPr/>
        </p:nvPicPr>
        <p:blipFill>
          <a:blip r:embed="rId2"/>
          <a:stretch/>
        </p:blipFill>
        <p:spPr>
          <a:xfrm>
            <a:off x="2209680" y="1638360"/>
            <a:ext cx="6858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Installation Examples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167652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2280" y="1752480"/>
            <a:ext cx="2057400" cy="46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r view of Guy’s gear, including: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vdc terminal str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R pream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i-Circuits Split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wa BCB Filter and Extension Fil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ga_rackback_2" descr=""/>
          <p:cNvPicPr/>
          <p:nvPr/>
        </p:nvPicPr>
        <p:blipFill>
          <a:blip r:embed="rId2"/>
          <a:stretch/>
        </p:blipFill>
        <p:spPr>
          <a:xfrm>
            <a:off x="2209680" y="1676520"/>
            <a:ext cx="6858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Installation Examples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167652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280" y="1676520"/>
            <a:ext cx="2057400" cy="46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hn’s setup which includes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wo homebrew audio switching networ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/Out switches for audio fil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mebrew top shelf for atomic clock, wireless mouse receiver and Fujitsu Stylistic 2300 Pen Compu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jb_3" descr=""/>
          <p:cNvPicPr/>
          <p:nvPr/>
        </p:nvPicPr>
        <p:blipFill>
          <a:blip r:embed="rId2"/>
          <a:stretch/>
        </p:blipFill>
        <p:spPr>
          <a:xfrm>
            <a:off x="2209680" y="1638360"/>
            <a:ext cx="6858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Installation Examples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167652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2280" y="1676520"/>
            <a:ext cx="2057400" cy="36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ar view of John’s rack case, including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n-Tec RX320 recei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ni-Circuits antenna split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ngee cords and foam blocks for securing equi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jb_4" descr=""/>
          <p:cNvPicPr/>
          <p:nvPr/>
        </p:nvPicPr>
        <p:blipFill>
          <a:blip r:embed="rId2"/>
          <a:stretch/>
        </p:blipFill>
        <p:spPr>
          <a:xfrm>
            <a:off x="2209680" y="1638360"/>
            <a:ext cx="6858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Rackmount Cases to the Max!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167652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52280" y="1676520"/>
            <a:ext cx="2057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rackcases_galore" descr=""/>
          <p:cNvPicPr/>
          <p:nvPr/>
        </p:nvPicPr>
        <p:blipFill>
          <a:blip r:embed="rId2"/>
          <a:stretch/>
        </p:blipFill>
        <p:spPr>
          <a:xfrm>
            <a:off x="2209680" y="1638360"/>
            <a:ext cx="6858000" cy="51433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228600" y="2286000"/>
            <a:ext cx="19051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Reveale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he source of brownouts in Grayland, WA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9144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What are These Cases, Anyway?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14400" y="1752120"/>
            <a:ext cx="72388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049"/>
              </a:spcBef>
              <a:spcAft>
                <a:spcPts val="700"/>
              </a:spcAft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rable, transportable cases for 19-inch rackmount equi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49"/>
              </a:spcBef>
              <a:spcAft>
                <a:spcPts val="700"/>
              </a:spcAft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in Pro-Audio Indus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49"/>
              </a:spcBef>
              <a:spcAft>
                <a:spcPts val="700"/>
              </a:spcAft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gged molded Polyethylene constr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49"/>
              </a:spcBef>
              <a:spcAft>
                <a:spcPts val="700"/>
              </a:spcAft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gral handles, front/rear co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49"/>
              </a:spcBef>
              <a:spcAft>
                <a:spcPts val="700"/>
              </a:spcAft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ustry-standard threaded rai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Why Go to the Trouble and Expense?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1676520"/>
            <a:ext cx="784836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es for a neat, compact sh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sy access to back panels without disassembly of cables, coax, interconnect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ch faster transport, setup, and teardown of gear for DXpeditions– everything goes as a modu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ate homebrew switching networks and other circuits into c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ovable covers provide protection from dust, moisture, and offer a little extra 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E: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o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odels not for air transport–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hicle or hand carry on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9144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Standard Sizes of “1-Space” Multiples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914040" y="2057040"/>
            <a:ext cx="33526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-Space =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1.75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-Space =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3.50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-Space =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5.25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-Space =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7.00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2057400"/>
            <a:ext cx="33526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4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-Space =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10.50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4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-Space =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14.00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4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-Space =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17.50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486400"/>
            <a:ext cx="6934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Vertical Dimensions with Standard Threa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Mounting Holes and Spac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9144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Avoid Old-Style Wood Core Rack Boxes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1962000"/>
            <a:ext cx="38862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o heav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as dur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ne to loose seams with use and 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wrong_stylecases_1" descr=""/>
          <p:cNvPicPr/>
          <p:nvPr/>
        </p:nvPicPr>
        <p:blipFill>
          <a:blip r:embed="rId2"/>
          <a:stretch/>
        </p:blipFill>
        <p:spPr>
          <a:xfrm>
            <a:off x="4216320" y="1719360"/>
            <a:ext cx="477540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9144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ree Major Brands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14400" y="1752120"/>
            <a:ext cx="7238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049"/>
              </a:spcBef>
              <a:spcAft>
                <a:spcPts val="700"/>
              </a:spcAft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tor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49"/>
              </a:spcBef>
              <a:spcAft>
                <a:spcPts val="700"/>
              </a:spcAft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KB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49"/>
              </a:spcBef>
              <a:spcAft>
                <a:spcPts val="700"/>
              </a:spcAft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BT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gatorcase_1" descr=""/>
          <p:cNvPicPr/>
          <p:nvPr/>
        </p:nvPicPr>
        <p:blipFill>
          <a:blip r:embed="rId2"/>
          <a:stretch/>
        </p:blipFill>
        <p:spPr>
          <a:xfrm>
            <a:off x="3352680" y="1682640"/>
            <a:ext cx="3175200" cy="3492720"/>
          </a:xfrm>
          <a:prstGeom prst="rect">
            <a:avLst/>
          </a:prstGeom>
          <a:ln w="0">
            <a:noFill/>
          </a:ln>
        </p:spPr>
      </p:pic>
      <p:pic>
        <p:nvPicPr>
          <p:cNvPr id="106" name="Skb_Rack_case" descr=""/>
          <p:cNvPicPr/>
          <p:nvPr/>
        </p:nvPicPr>
        <p:blipFill>
          <a:blip r:embed="rId3"/>
          <a:stretch/>
        </p:blipFill>
        <p:spPr>
          <a:xfrm>
            <a:off x="6095880" y="3733920"/>
            <a:ext cx="2513160" cy="28954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09480" y="563868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itable for both rack mount and tabletop rece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gatorcase_homepage" descr=""/>
          <p:cNvPicPr/>
          <p:nvPr/>
        </p:nvPicPr>
        <p:blipFill>
          <a:blip r:embed="rId2"/>
          <a:stretch/>
        </p:blipFill>
        <p:spPr>
          <a:xfrm>
            <a:off x="0" y="190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gatorcase_webpg_6Ushallow" descr=""/>
          <p:cNvPicPr/>
          <p:nvPr/>
        </p:nvPicPr>
        <p:blipFill>
          <a:blip r:embed="rId2"/>
          <a:stretch/>
        </p:blipFill>
        <p:spPr>
          <a:xfrm>
            <a:off x="-76320" y="0"/>
            <a:ext cx="9220320" cy="691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4T13:54:22Z</dcterms:created>
  <dc:creator>Adam Tinkoff</dc:creator>
  <dc:description/>
  <dc:language>en-US</dc:language>
  <cp:lastModifiedBy>Guy Atkins</cp:lastModifiedBy>
  <dcterms:modified xsi:type="dcterms:W3CDTF">2003-08-27T04:55:48Z</dcterms:modified>
  <cp:revision>37</cp:revision>
  <dc:subject/>
  <dc:title>TINKOFF PowerPoint Templates</dc:title>
</cp:coreProperties>
</file>